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A29C-86DA-4C32-87B4-F356DD1E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76E-0C5D-4459-90A1-6DBF2C39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03CDF-7642-4DBF-AA46-663EF68E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6ED7E-C60D-43AE-A979-2C71598C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EC67C-D7F0-4C0C-BCA0-45A19B32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86ACF-16DC-46D5-9131-4C8AE20C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79164-842F-4ADB-819A-E519BF22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53EAC-BEAE-4F31-B5A5-46F7DCA2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8CC2B-1C8F-42A7-ACF1-80262F2E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99E18-EBD1-4240-9B1F-2C4EE929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0C0D7-F71D-484B-AA04-7FCFEA05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B1D92-202D-483C-9E7A-F72A6F2A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088-D79C-416E-AED9-B501DB6C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6A338-D119-4F24-AE72-5EEC9D9A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CFCD6-F7CE-4A2D-B346-D00DAE0A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0847B-3211-4C9E-89C8-FCE7306A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36D60-153C-4855-9759-C888FB6C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21C7F-43B2-4EB4-BCC7-C6628FB1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495C5-8E2A-4157-9398-DBDC0E86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26C7A-5440-4A9F-A789-43FE13D8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22B49-3643-44A4-8EE1-15843E37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DF2C1-DC6C-4B07-8667-54564861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FF430-DEDC-4EB6-A02D-3644E8A4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1A7-2DEE-4542-AADD-5F8205C61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F1C3A-DA9F-4C94-95FA-B850AD63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D831C-64BD-4BCF-A57E-AF70CCEB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CACDD-F131-4FC1-84A8-F83EE428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8EA90-1F45-4B97-AEAA-6ED7FC6A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D8142-65BD-4FA6-B394-854D3B58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D6558-A74C-4958-8C68-0F121E47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50DF0-CA61-4E4D-AF02-07D43042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64DC7-B480-4EFF-9304-8C30644F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6411C-304F-449D-B654-59F86F03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30F3C-2464-4B4A-84E5-4E394140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AF5C-98C8-4D86-AA0C-7426D7D5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A5B3B-C9EC-433E-ACC4-AB6FDCC2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FDA91-3F3D-4045-9574-C21F6E88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7DD92-9EFC-49D3-9372-1B87FA23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BA74C-D57D-415F-87E0-8BB839DC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46A8A-0B86-49AF-B005-06FF1F00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F3738-8171-4112-8CBF-D5596285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3048F-ACA6-461D-BE56-A4DD5D09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75264C-D43C-40A8-A06B-28FFD791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DC0F0-3404-4F87-8E7D-01777CC3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74700-A9FC-46F5-BCDF-C45D2908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F615-9866-4294-8A5E-BF118023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02867-9FB2-4011-BFC6-EA60C34B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9A8A8-4C86-408E-9C83-0924CD02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D1762-6341-4049-A91E-7548CD77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FC7DE-96EB-4AAB-8E32-46C9301E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AD922-D06A-4A86-BBEB-355C5A4F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0A90E-FCEE-49B9-A8CB-A39058C3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5D8781-BFB6-4E33-A4B8-E7EA1775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F5DC9-8652-41E8-A23B-61AF147E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B2C71-A321-414B-9B0B-87B78A05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92A0E-B1CE-47BB-8E58-88C5EFE3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0C9C-3FC5-413D-AA2C-878BF9CD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3C169-2DA5-4CD8-8B0B-2E5E3A30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33F3E-ECDB-42BF-8D2A-5E3843D4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068D0-7F57-4877-8C44-39423C3E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B8A22-F0EF-4C2A-8BED-07A9AE5D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F2FC0-7B7D-4234-A925-86AB5CB1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81F44-8512-41C1-94DC-500B79E0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067C0-73A8-4269-92CD-1A303DD3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023B66-12F6-4D53-A604-5A07F836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E8CC5-362A-4AAF-918E-12C6F680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7DB56-6939-4553-B6FA-F112C409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2213-097E-43B7-91A9-18E7A915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519A6-2999-4AA2-9F3C-3352EE50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34772-4186-42C0-8EFA-C20FA8B0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391CB5-258F-458B-99A2-1AB4E9C1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A7459F-077E-486A-829C-79E43867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E10122-28EA-4F15-B1B7-463523F2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5E2DD-61B0-4EE7-8AE8-E71558FC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B435D-06B2-48DA-ACB0-833455F2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034BC6-B16C-4DF3-A229-39E60D78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CF528-9A98-4E34-8E9A-99F149750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CFA2E-37C9-4B75-8C34-FDCF6123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AD78-46AF-4337-9265-66F6A53A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7C86A2-488B-46B2-B05D-B7DDCD2D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79F78F-A372-4839-9A3D-65C2EEE2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CE264-D8B4-4D90-9D53-9A6BBCBB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27628-E27C-4E0C-8D59-AD7AB192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FDE1A-A368-4985-B14E-A792BE4A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C5BA3-ABD6-4C49-99AC-AC62ABBB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0B331D-2320-4EFE-AD1B-BC5BA188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C3D543-2585-47EC-BB23-A4E20E81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C82DE-4989-41BE-961C-A9CC5533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275E9-E7FD-4805-9273-B4E46A71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893D-5D3A-488E-8B17-67B649BB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E431B7-56E0-419C-B8F5-4E2E83A9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EDA670-B4F6-4771-B300-ADF0AFC8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70B83-A7EE-4A9A-8A60-72C44CA7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1EA3E1-9C1F-4810-B93B-88A8F246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AE1FC5-F07E-4C0F-9AC1-1FFC5CE9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1DB299-CC17-4727-A8DA-B0A5EA6A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65D09B-8FBA-49B7-BAD6-7C9E70F5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151E1-A7C6-4A46-B9D3-BAA14BCE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8A091D-1927-4859-9A42-A3036832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A1424A-5317-4470-88B2-AF9A5433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DB34-150D-4162-82EF-9EE4D5A8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3B92B7-FD32-42EA-9257-34733789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1C46A6-9203-43C7-AD86-0D2FBF6F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E134FB-064C-41B8-90F1-B592B982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65065C-2C9A-4E56-BBA4-99F3ADA3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E828CA-3DDD-45F0-B577-BC0A5F29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9BC9E-D1C3-4C60-AD3B-9D1FA1AA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43D8AF-90B8-4F46-BD15-C332B396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582717-044E-412A-927B-F44B66AF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BDE7C9-6D71-47D7-9C5B-9ECD9056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8D750-A2D7-4F63-9C71-42DFBB87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0C6-04DB-4F20-BFDE-B5BA12F7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B3BF-F1E4-4F97-BF0C-77809916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5151A-A9DD-4C18-9534-955173C8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49F7E0-992E-4DBE-88FC-274AD026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68AD44-F4A8-4C8F-93DA-A8E4D153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7210E-3154-4BE7-9330-DDA8A0A4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A55D7B-1CCF-4DA4-A535-BB2D6EA5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2AE4F9-FFE9-4B33-9C6D-E1F7E97C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5661B6-CE4C-4607-85D4-307F605D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0A4175-6447-4ADE-B34C-652C1BA2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AC4CDC-E3A5-4660-BB29-EA55DD67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9B86D-16CB-40EC-87E7-D8D555E9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109A-919A-4F08-A99C-89C84B7A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56354C-652E-4C66-A735-61A453DF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693254-7643-469F-BB0E-315045B4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F13E04-90F1-4238-9F57-33D76352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7AB7FC-BFE7-4DC4-AA97-8C089C9E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E101BD-C3D3-4393-83A3-78B38E6E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B7CCD2-9C95-4FF7-8220-8193CC17D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9CB10E-D488-4A38-8AFE-A6032A49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FE3C3D-441F-425B-A851-3182BC51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8E1F94-93DF-4ADB-A57A-D08C5537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C6FC09-D204-417B-9BF3-5D27050D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B5CB-9996-4F58-99CE-8367FF7F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20003-3463-4278-9F5F-8A3CF3C1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43F449-54B3-4546-85EE-F2A0C985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4E641A-F26A-4C6F-B818-DE8D8454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3050E6-55C9-418F-B010-E0F7E857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626158-6128-49D6-A20F-9088C498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5649C0-D516-4A06-91D7-38040CB9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B36720-1285-4873-8CBF-A26F5655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6E4243-995D-4366-894E-75BE73A35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79FDD4-AAAD-4D1B-9E73-E058CC0F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995BA3-6D42-4EF7-B5C6-6AD38DFB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0592-9988-4914-ACAE-38B3EADF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732CBD-1D54-457D-9D99-192C3C20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A1A435-173A-4A0A-99E5-A6D41941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B2CA83-D90F-4C45-A507-118AC36D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C8F401-BC1F-4A97-8C45-A772402F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406FD8-829D-4341-83A6-79B872E9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3E685B-DDF4-496E-8A5B-2A25997A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0E173C-3C9F-4048-B385-8FC844BB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F58B79-C964-4B35-B9B7-D5D92FBC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265B32-3E2C-4313-8A59-9B3C13A3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AA0869-3BAA-4438-AEBD-E96F96ED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5FB5-DF2D-4E3B-B6F6-41FABAE8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D22BC9-CFA8-4CDB-B9AB-A09A6645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E2C8E7-EEB7-4EA3-9D54-29D1E17C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EBAB74-C660-489F-A6B9-1EE6CC14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36F4FD-BB03-45BA-A993-D655DF23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8EDD7-865B-4A5A-AFAD-7B007EB9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B2817A-ED91-42B5-8D22-4E8FCC7E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E0DECF-EC1C-4CE3-A0C9-3B913694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50286C-1AD7-42E3-BC41-B2E63F74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C89400-6F18-49CD-8541-4CE82F5F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1BBF2A-14C9-4462-BCFC-67D10EF6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FE0DD-8285-4EF4-90B1-8A2C9A28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2861E0-5559-43EC-B097-48123545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0F4D0E-C0DA-4FCA-8959-E2420507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9F521B-34AF-495D-9893-39C997EE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B2928-1BF9-4EB4-B8F0-2CA7D8BD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039A4-8DC5-4CB5-BF55-19F46DD8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81DD8-EBAC-4843-BBAE-8DE13898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19640-7A3E-4FCF-81B0-52B2DEA8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0B4-3454-4A4C-91C0-DD2A70A1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9EBE3-DE71-4D49-A013-E834F0DD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E46BF-8592-4BA8-BB10-BB0F8D45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8057-A6D9-43BB-8A89-133A53BB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EC1D8-150D-48B9-AA46-35094A3F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AB512-0B0C-4498-873A-691699CD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3DB73-31B9-4BBC-A9FD-221FE0F0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8A5EF-3CEE-4DFA-909F-84023261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E72A6-681A-4413-9EEC-76D73DC8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1D71C-28D3-4909-9D30-D97C65AE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902E8-D32F-49B6-BC7C-0E042CA4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BFD-58EB-4119-984C-6F91974E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B1206-6278-495C-AB8A-9F3F4C44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7F77F-C7E4-495F-B517-FCF183B3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33B9C-8D71-4472-AEEC-4AF0E519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B8214-FF86-41FE-8A63-8DF4A6A0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1CA51-F19B-4C3C-AA96-BC105B2E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5EBDF-2690-41F2-A79B-D21EFCBA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861E1-3CAC-4BD9-810A-A9605CE1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3BA01-3C66-4331-A3C1-CA337358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0D7C6-01EE-4BD5-A606-8DFCEF7F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B1FD8-725B-4C7B-B74B-1B90AB6D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D2A-2CAB-4A98-A303-DCE58153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817BE-F291-48FE-8795-2AA921C9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E0E22-2D6F-48ED-8F60-6E43D14F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4EAF1-36DC-4DB5-ACE9-3FF8E019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6A082-712F-46B1-9F44-F50CB9C2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11FFC-0FB5-4E64-AA62-1F61FDD2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F6F11-B913-4E33-8D86-95358EFB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33CA2-E800-404C-9062-997026ED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278B6-3C3C-4E27-8AA1-8784ED2D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D7BFE-87D4-4C04-9571-A22BF894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99A6B-3571-4DD7-9441-B669E438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688-8D0A-4538-B218-99A83670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D26BE-B766-4636-9171-F74ED6BD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571C7-6F6F-41B2-8EC3-CE4552C9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1FE05-B651-4805-B67F-E5D3871E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742A4-9EE0-45F7-8C66-3D8B5C96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54011-8951-47A2-AFD0-D5E47ED4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CCD26-F991-4E0D-B523-80975E98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6965C-F9D8-4DFD-BAC0-A3255FEB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29EA3-A3BA-41FF-9B15-121EBC38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70858-B9BE-415F-8576-80DAEDDD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DBFFF-67F6-4AC3-8234-2219595F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7D2-1B6B-4535-B7C2-B2456C0A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1FCB5-36DD-4731-B4D5-952F04CE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74B26-8644-4B26-82EF-D2E84927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B6C49-ABAA-4223-8AB2-20F57E42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27334-7331-4F56-876D-25259837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E4084-0F5B-4055-884E-405E69F0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B4E6E-9D1B-4970-9AF1-D2911720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0014F-C63C-44A5-92EA-49B6F5EA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C6C6F-DBB4-4DB2-8ACC-267F870E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C89CD-A676-4D2F-A6D0-E8ED6681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321B8-016F-4F19-9DC5-0FF9C14B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F65-0E44-4BD0-AFAE-FF53B415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82830-9FCE-418D-AE2C-9AA95185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B3BCC-2327-4ED9-8733-C236C90B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C26B8-F62E-49C8-A822-A3144F0A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F74B2-68C0-4BE7-843A-7286E983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EE16D-76A6-46AD-8F8C-6B684DFF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AB43C-BF3C-44C0-B644-8EA2E2CC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70A14-0594-4513-8A2A-8E146034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EB46A-9A79-447D-8F6E-12E3A37E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98946-C333-4B9A-9F52-57145BDF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FDBCC-D192-415E-9BD7-1454FD2C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36A-AF86-472D-9835-7D7A76AD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E1DFB-6F87-4DD1-BC28-EE4A13AA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69B4E-6C4D-4B07-B824-C80870E5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FBA4E-4397-4C8C-8F08-E3BA7F63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6F48E-E1E0-416D-A282-84D5008F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B5523-D3DF-4806-9517-866086CB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32EF3-9E4B-49BB-8E06-26E72EC3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18D63-EB0B-4FB6-9EFA-14EF062F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B3DA4-DF88-4501-AC68-34E473A7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7518F-13C0-42E4-9293-7DC6E347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1B416-FA2D-47DA-A805-7E263E13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6369-79B0-4E84-84EA-48141E92DC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D17B-EF3D-40CB-BA4D-03DA1068DE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6254-2528-4F29-975C-CAAC274582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9513-A2D3-4F01-8F31-C3217FC74F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0FCC-E894-4ACD-965C-69D495A79C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B823-6869-44FE-BEAD-228683E1C2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99B9-6CEC-49E3-ABE2-7A50559B8B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3442-26E3-45A4-A0A3-7497100A80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E43E-45E3-4BCE-A8CB-11E7ABE548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79FD-4FC1-4DB6-9D20-3F34A2805F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4AD2-F6D1-4536-BA68-7D153DE052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91CF-D8FE-490F-ADA0-22DF1152EB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F9E1-AFCE-47CA-8178-2AEA4BF5A0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8677-5781-49D3-A68C-E509533200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C711-9723-4FF8-AF2A-781A08AD19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1969-35EC-4230-8D00-E65C4036AA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D225-FDC4-421B-BA4C-B688748962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EDE3-13D3-4CA0-B2EC-4CB3067C51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067E-E632-48CC-9DB9-E1AFD00863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4ABF-364A-4947-8A1B-80BFB41365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723D-4CBD-451D-9F99-CABA91C555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8928-5BA9-45B9-97F3-48DA8551F6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3701-AD7D-4E09-86A8-A0209FDD6E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C10E-74FF-4796-A155-E0B2F5C549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9CE6-3670-4FE4-A82D-C624363251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8746-0D40-4B6C-9D0C-03613CC642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6DAB-13A4-4690-B118-59520D9864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9EE9-E8C0-41CD-AE86-A20B1CC1B9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9F86-BCAE-448B-A1CD-5B30DB66F3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BB1C-B060-4E0A-8330-16AC35CE5E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155A-4C6A-45F8-B3F5-5030B0531B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A323-46DF-4FA9-B79A-73FA2F1F0B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0309-569E-4465-87DB-D69B4A0EF1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15B0-4FBB-4D20-AC2A-2244741503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80D1-6769-4564-9C9B-363BFE6575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3386-7B39-4CB5-9505-6EA5321995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497F-7D06-4DDB-A2B4-5B8FABBB11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95F9-B1F9-453C-A2CC-07161B69B9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931A-E1C5-4EC7-A46E-E83C941675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6A8F-DCD8-417F-9CB6-F9E5F5B4E8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52520" y="3029040"/>
            <a:ext cx="643896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69633" descr=""/>
          <p:cNvPicPr/>
          <p:nvPr/>
        </p:nvPicPr>
        <p:blipFill>
          <a:blip r:embed="rId1"/>
          <a:stretch/>
        </p:blipFill>
        <p:spPr>
          <a:xfrm>
            <a:off x="611280" y="3772080"/>
            <a:ext cx="7953120" cy="196200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69634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6781680" cy="2019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4356000" y="1341360"/>
            <a:ext cx="576360" cy="7192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4313160" y="2205000"/>
            <a:ext cx="576360" cy="7192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7062840" y="1341360"/>
            <a:ext cx="576360" cy="7192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7236000" y="2205000"/>
            <a:ext cx="576000" cy="7192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2065320" y="4005360"/>
            <a:ext cx="576360" cy="7189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2022480" y="4869000"/>
            <a:ext cx="576360" cy="7189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9"/>
          <a:stretch/>
        </p:blipFill>
        <p:spPr>
          <a:xfrm>
            <a:off x="5046840" y="3990960"/>
            <a:ext cx="576000" cy="7192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0"/>
          <a:stretch/>
        </p:blipFill>
        <p:spPr>
          <a:xfrm>
            <a:off x="5003640" y="4854600"/>
            <a:ext cx="576360" cy="7192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1"/>
          <a:stretch/>
        </p:blipFill>
        <p:spPr>
          <a:xfrm>
            <a:off x="7999560" y="4005360"/>
            <a:ext cx="576000" cy="71892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2"/>
          <a:stretch/>
        </p:blipFill>
        <p:spPr>
          <a:xfrm>
            <a:off x="7956720" y="4869000"/>
            <a:ext cx="57600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885960" y="1014480"/>
            <a:ext cx="7372080" cy="4829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174840" y="1830240"/>
            <a:ext cx="605160" cy="863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308720" y="1859040"/>
            <a:ext cx="777960" cy="863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262320" y="2867040"/>
            <a:ext cx="604800" cy="863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396200" y="2895480"/>
            <a:ext cx="777960" cy="863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348000" y="3933720"/>
            <a:ext cx="604800" cy="8636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451640" y="3962520"/>
            <a:ext cx="777960" cy="863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348000" y="4941720"/>
            <a:ext cx="604800" cy="863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380360" y="4970520"/>
            <a:ext cx="7779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285840" y="839880"/>
            <a:ext cx="8572320" cy="58291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7899480" y="19303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1547640" y="2781360"/>
            <a:ext cx="3600720" cy="8636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7899480" y="429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1476360" y="5229360"/>
            <a:ext cx="5759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1490760" y="785880"/>
            <a:ext cx="6162480" cy="52862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2484360" y="1844640"/>
            <a:ext cx="4175280" cy="9367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2268360" y="5013360"/>
            <a:ext cx="4175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5200920" cy="25336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619280" y="3213000"/>
            <a:ext cx="41050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6324" descr=""/>
          <p:cNvPicPr/>
          <p:nvPr/>
        </p:nvPicPr>
        <p:blipFill>
          <a:blip r:embed="rId1"/>
          <a:stretch/>
        </p:blipFill>
        <p:spPr>
          <a:xfrm>
            <a:off x="257040" y="1552680"/>
            <a:ext cx="8629920" cy="37526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4896000" cy="8650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826920" y="4292640"/>
            <a:ext cx="67694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5300" descr=""/>
          <p:cNvPicPr/>
          <p:nvPr/>
        </p:nvPicPr>
        <p:blipFill>
          <a:blip r:embed="rId1"/>
          <a:stretch/>
        </p:blipFill>
        <p:spPr>
          <a:xfrm>
            <a:off x="304920" y="885960"/>
            <a:ext cx="8534160" cy="50860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3311640" cy="9363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4500720" y="2997360"/>
            <a:ext cx="3311280" cy="9363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755640" y="4005360"/>
            <a:ext cx="8064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600120" y="814320"/>
            <a:ext cx="7943760" cy="52293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3564000" y="2349360"/>
            <a:ext cx="792000" cy="863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877080" y="2335320"/>
            <a:ext cx="792000" cy="863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3564000" y="3659040"/>
            <a:ext cx="792000" cy="863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6877080" y="3645000"/>
            <a:ext cx="792000" cy="8636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3708360" y="4998960"/>
            <a:ext cx="792360" cy="8636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7"/>
          <a:stretch/>
        </p:blipFill>
        <p:spPr>
          <a:xfrm>
            <a:off x="7021440" y="4984920"/>
            <a:ext cx="79236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585720" y="1504800"/>
            <a:ext cx="7972560" cy="38484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2592360" cy="9367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3851280" y="2708280"/>
            <a:ext cx="2592360" cy="9367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900000" y="3716280"/>
            <a:ext cx="2592360" cy="9367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3780000" y="3716280"/>
            <a:ext cx="2592360" cy="936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6"/>
          <a:stretch/>
        </p:blipFill>
        <p:spPr>
          <a:xfrm>
            <a:off x="1187280" y="4653000"/>
            <a:ext cx="3168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33:02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